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AF59-3EA2-40E0-B225-E5AD81D86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77BC-50FE-479A-97AA-C6C54494BE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7C9C-5168-4CA2-98C9-9BBCCF17B0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DC0E-9383-43A4-BEBD-4136840A85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996C-8E8B-4BF2-9604-55FDA6EAB2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EE54-937A-463E-9787-1E33341EBC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F006-B33E-496A-AABD-1D0485B1BC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4C9A-CE6F-4FE5-A3ED-EC6ABE5C15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DFC1-9180-458E-BDAB-BBE0EEAB07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57F1-1149-49D8-87FA-E5F5B28D7B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41C-2594-40FA-AB68-A9EBED72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423-49DF-4B3D-8424-C788B36B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3279-04D8-4531-B1F5-E929A6D3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372-FE79-4C33-8E38-B86E32E2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430-8F06-47EF-B141-D51AC97F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170-26E7-4A77-B020-6CB99406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D79-DCE8-432E-9F2B-0245814E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D90-8B08-4195-BE62-214DE82D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B7F-4BA9-4701-A17D-AAD6F840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C5F-9FBF-4B3E-864A-A6B51749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5C9-B077-4EA5-BF96-CD605190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9151-E252-4059-9E36-B2EBA15F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6512-5FEF-41E5-9005-417A89FC47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NarutoShuriken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Traditional </a:t>
            </a:r>
            <a:r>
              <a:rPr b="0" lang="ja-JP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日本　</a:t>
            </a:r>
            <a:r>
              <a:rPr b="0" lang="en-US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Weapon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80808"/>
                </a:solidFill>
                <a:latin typeface="Arial"/>
              </a:rPr>
              <a:t>クイズ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かたな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Triple 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Single 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Doubled Edg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3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ヌンチャク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ere connected by _____or cha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6858000" y="1981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さい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carried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3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2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1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3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________ has a sickle on one end and a weight on the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720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0000"/>
                </a:solidFill>
                <a:latin typeface="Arial"/>
              </a:rPr>
              <a:t>くさりが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ぼう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______ lo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5.68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4.82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1.28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d) 1.82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しゅりけん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made from 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693432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co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ゆみ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_____ t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4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2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6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katana-300x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かたな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ried by Samur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gle-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rved Bl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nunchucks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ヌンチャク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sticks connected by rope or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use-sai-weapon-200X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さい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ap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ried in 3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b_KUSARIGAM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くさりがま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ckle on one end weight on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ight was swung, sickle used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hurik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しゅりけん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st popular in moder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to support main we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so used for other purp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de from co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osta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ぼう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 wooden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ditionally 1.82m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rd w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sn’t originally a we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ゆみ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by Samur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 2m 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" name="Picture 5" descr="NarutoShurikenBig"/>
            <p:cNvPicPr/>
            <p:nvPr/>
          </p:nvPicPr>
          <p:blipFill>
            <a:blip r:embed="rId1"/>
            <a:stretch/>
          </p:blipFill>
          <p:spPr>
            <a:xfrm>
              <a:off x="2214360" y="1981080"/>
              <a:ext cx="38581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4" descr="shuriken"/>
            <p:cNvPicPr/>
            <p:nvPr/>
          </p:nvPicPr>
          <p:blipFill>
            <a:blip r:embed="rId2"/>
            <a:stretch/>
          </p:blipFill>
          <p:spPr>
            <a:xfrm>
              <a:off x="5760" y="4267080"/>
              <a:ext cx="30459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" descr="use-sai-weapon-200X200"/>
            <p:cNvPicPr/>
            <p:nvPr/>
          </p:nvPicPr>
          <p:blipFill>
            <a:blip r:embed="rId3"/>
            <a:stretch/>
          </p:blipFill>
          <p:spPr>
            <a:xfrm>
              <a:off x="3052080" y="4495680"/>
              <a:ext cx="304596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nunchucks1"/>
            <p:cNvPicPr/>
            <p:nvPr/>
          </p:nvPicPr>
          <p:blipFill>
            <a:blip r:embed="rId4"/>
            <a:stretch/>
          </p:blipFill>
          <p:spPr>
            <a:xfrm>
              <a:off x="6021720" y="3657600"/>
              <a:ext cx="31222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db_KUSARIGAMA2"/>
            <p:cNvPicPr/>
            <p:nvPr/>
          </p:nvPicPr>
          <p:blipFill>
            <a:blip r:embed="rId5"/>
            <a:stretch/>
          </p:blipFill>
          <p:spPr>
            <a:xfrm>
              <a:off x="5869800" y="0"/>
              <a:ext cx="32742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katana-300x300"/>
            <p:cNvPicPr/>
            <p:nvPr/>
          </p:nvPicPr>
          <p:blipFill>
            <a:blip r:embed="rId6"/>
            <a:stretch/>
          </p:blipFill>
          <p:spPr>
            <a:xfrm>
              <a:off x="3508920" y="0"/>
              <a:ext cx="236052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6" descr=""/>
            <p:cNvPicPr/>
            <p:nvPr/>
          </p:nvPicPr>
          <p:blipFill>
            <a:blip r:embed="rId7"/>
            <a:stretch/>
          </p:blipFill>
          <p:spPr>
            <a:xfrm>
              <a:off x="5760" y="0"/>
              <a:ext cx="3502800" cy="21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5" descr="bostaff"/>
            <p:cNvPicPr/>
            <p:nvPr/>
          </p:nvPicPr>
          <p:blipFill>
            <a:blip r:embed="rId8"/>
            <a:stretch/>
          </p:blipFill>
          <p:spPr>
            <a:xfrm>
              <a:off x="0" y="2048040"/>
              <a:ext cx="2680200" cy="222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y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ジェームズ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ライアン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09:55Z</dcterms:created>
  <dc:creator>SD#34</dc:creator>
  <dc:description/>
  <dc:language>en-US</dc:language>
  <cp:lastModifiedBy>Owner</cp:lastModifiedBy>
  <dcterms:modified xsi:type="dcterms:W3CDTF">2009-12-11T00:42:01Z</dcterms:modified>
  <cp:revision>16</cp:revision>
  <dc:subject/>
  <dc:title>Traditional 日本　Weapons</dc:title>
</cp:coreProperties>
</file>